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gif" ContentType="image/gif"/>
  <Override PartName="/ppt/media/image13.gif" ContentType="image/gif"/>
  <Override PartName="/ppt/media/image8.gif" ContentType="image/gif"/>
  <Override PartName="/ppt/media/image12.gif" ContentType="image/gif"/>
  <Override PartName="/ppt/media/image7.gif" ContentType="image/gif"/>
  <Override PartName="/ppt/media/image11.gif" ContentType="image/gif"/>
  <Override PartName="/ppt/media/image6.gif" ContentType="image/gif"/>
  <Override PartName="/ppt/media/image10.gif" ContentType="image/gif"/>
  <Override PartName="/ppt/media/image5.gif" ContentType="image/gif"/>
  <Override PartName="/ppt/media/image4.gif" ContentType="image/gif"/>
  <Override PartName="/ppt/media/image1.jpeg" ContentType="image/jpeg"/>
  <Override PartName="/ppt/media/image3.gif" ContentType="image/gif"/>
  <Override PartName="/ppt/media/image26.gif" ContentType="image/gif"/>
  <Override PartName="/ppt/media/image24.gif" ContentType="image/gif"/>
  <Override PartName="/ppt/media/image23.gif" ContentType="image/gif"/>
  <Override PartName="/ppt/media/image22.gif" ContentType="image/gif"/>
  <Override PartName="/ppt/media/image21.gif" ContentType="image/gif"/>
  <Override PartName="/ppt/media/image19.gif" ContentType="image/gif"/>
  <Override PartName="/ppt/media/image20.gif" ContentType="image/gif"/>
  <Override PartName="/ppt/media/image18.gif" ContentType="image/gif"/>
  <Override PartName="/ppt/media/image17.gif" ContentType="image/gif"/>
  <Override PartName="/ppt/media/image16.gif" ContentType="image/gif"/>
  <Override PartName="/ppt/media/image15.gif" ContentType="image/gif"/>
  <Override PartName="/ppt/media/image14.gif" ContentType="image/gif"/>
  <Override PartName="/ppt/media/image25.gif" ContentType="image/gif"/>
  <Override PartName="/ppt/media/image2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3485D-70FB-4D0E-A13F-97FC034B8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D4591-83BF-4CB1-B3CE-AAF048E8B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22B51-7895-4FCD-974A-FAE569E65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6E2DC-449D-4A66-8AD6-6A57D5509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6A561-0E44-4DA0-B00E-FE4AAC0CD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D3B26-E54C-40CD-A461-735E1AEC3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3B734-CE10-4CBA-8975-D4ACDF25E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3BE23-9E83-4ABD-A453-4C4A0AE79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ED7F1-A441-405B-9CCA-4FEB4F3C6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EBA56-9373-471C-8754-67BD4B0A5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DB2B1-00D8-4B2C-86F7-D55C0CA8A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06F7A-C678-451E-8B96-93AE4CD08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9EB53-8C60-48AD-958F-9F9DA2DEC2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447920" y="609480"/>
            <a:ext cx="419076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Animation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0" y="4267080"/>
            <a:ext cx="180036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Pivot Man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1295280"/>
            <a:ext cx="9144000" cy="42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52360" y="719280"/>
            <a:ext cx="8639280" cy="56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360" y="480960"/>
            <a:ext cx="912528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581040" y="762120"/>
            <a:ext cx="798192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23840" y="228600"/>
            <a:ext cx="88963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762120" y="644400"/>
            <a:ext cx="7772400" cy="581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914400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57200" y="1035000"/>
            <a:ext cx="8153280" cy="48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23840" y="561960"/>
            <a:ext cx="8715240" cy="57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38080" y="428760"/>
            <a:ext cx="7391520" cy="60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85800" y="533520"/>
            <a:ext cx="8458200" cy="573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352440" y="304920"/>
            <a:ext cx="843912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-9360" y="228600"/>
            <a:ext cx="916272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914400" y="615960"/>
            <a:ext cx="7086600" cy="581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4680" y="523800"/>
            <a:ext cx="9134640" cy="633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905832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066680" y="457200"/>
            <a:ext cx="7086600" cy="58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425520"/>
            <a:ext cx="9144000" cy="600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492120"/>
            <a:ext cx="7696440" cy="599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66560" y="824040"/>
            <a:ext cx="8210880" cy="52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762120" y="304920"/>
            <a:ext cx="761976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90360" y="457200"/>
            <a:ext cx="896328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82296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3480" y="228600"/>
            <a:ext cx="907704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4T20:46:43Z</dcterms:created>
  <dc:creator>Patrick J. Mooney</dc:creator>
  <dc:description/>
  <dc:language>en-US</dc:language>
  <cp:lastModifiedBy>Patrick J. Mooney</cp:lastModifiedBy>
  <dcterms:modified xsi:type="dcterms:W3CDTF">2010-01-06T23:02:23Z</dcterms:modified>
  <cp:revision>5</cp:revision>
  <dc:subject/>
  <dc:title>Slide 1</dc:title>
</cp:coreProperties>
</file>